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EA4-D8E2-4ED0-B3AA-498564DD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2F0-8B8F-4C57-BBE2-1E69D21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B5F-2484-4EC6-AB98-EE44FB20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AE6-8AD9-44E8-856D-18571E9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2496-C8CC-4F39-AADD-30A6C3A8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38BB-D073-4976-BE02-979DB3A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B975-89D9-4AF5-A63B-50B919E2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AB8E-BE1D-4F28-9C66-21FC53E7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8B4F-E788-4DAE-9A0B-3DADE09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BACAA-E3B8-4B2B-ABD0-54E89B6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13C1-D024-4A95-962A-493FF36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C5C-2844-439C-969E-0DA6ED6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265B8-7AD9-4FFD-BFF2-D7E9A73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01AD-5F71-474B-8B6C-E0F6FA7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900C-F511-4274-BE79-DE4D79B0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8C2B-8F10-4AB6-BE1A-2F61EECB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36C1-B9E9-4907-873F-0807B9BB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26E-9226-49B4-916D-E4B0A446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F6B-831E-48A9-B504-A4A3002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5C0-A063-4C67-BB95-75AE0E3C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081-2726-425D-9EB4-8CCF3FE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F19-F289-4A47-BE61-2B33395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84E-D0F0-426E-8078-C106D7F4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F74-72BB-4FB3-B408-DC3C033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0648-F93C-4D84-9593-92C0E98B64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A570-A174-4B12-A907-F0FB06A02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3280" y="3573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Angélica/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Divulgação do Curso para os Profes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17492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ós a capacitação dos professores, os mesmos poderão desenvolver projetos com seus alu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Capacitação dos Professo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Avaliaçã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avaliação dar-se-á por meio da análise  do desempenho e do envolvimento do professor com a nova ferramen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 professores multiplicadores avaliarão a  qualidade e o aproveitamento do projeto elaborado pelo professor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Bibliografi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inclusaodigital.gov.br/inclu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espacoacademico.com.b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c600"/>
                </a:solidFill>
                <a:latin typeface="Tahoma"/>
              </a:rPr>
              <a:t>Professoras da Sala de Tecnologia Educacion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eila Rosana Bolonhin Barb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a Aparecida Terenciani Naz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a de Fátima G. Lima Miglioranç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Sala de Tecnologia Educacio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 tecnologias vem tendo um importante espaço no processo ensino/aprendizagem, oferecendo uma forma diferente e atrativa de adquirir conhecim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4402080"/>
            <a:ext cx="2398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Nós, professoras da Sala de Tecnologia Educacional da 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scola Estadual Senador Filinto Müller de Angélica</a:t>
            </a: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, propomos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Comic Sans MS"/>
              </a:rPr>
              <a:t>capacitar os profissionais em educação a usar a informática como um meio de melhorar a qualidade do ensino. </a:t>
            </a:r>
            <a:br>
              <a:rPr sz="3200"/>
            </a:br>
            <a:br>
              <a:rPr sz="3200"/>
            </a:br>
            <a:r>
              <a:rPr b="1" lang="pt-BR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miliarizar os professores com as ferramentas das tecnologias da informação e da comunicação, oferecendo cursos necessári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pacitar o corpo docente no desenvolvimento de projetos escolares com o uso da informática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vulgar projetos e pesquisas realizados pelos professor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entivar o uso da Sala de Tecnologia Educacional por todo corpo docent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Curso de Capacitaçã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cnologia como Prática Educacional”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32446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600"/>
                </a:solidFill>
                <a:latin typeface="Comic Sans MS"/>
              </a:rPr>
              <a:t>O que é o “Toondo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it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ToonDoo permite criar tirinhas e cartoons on-line totalmente personalizados, mesmo que  desenhar não seja uma habilidade do aluno. É uma ferramenta muito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interessant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e pode ser utilizadas em todas as disciplin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27972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ferecer a inclusão digital, utilizando a ferramenta Toondoo no sentido de saber operar e dinamizar as aulas dos professore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pacitar os professores para que eles possam capacitar seus alunos utilizando o Laboratório de Informática (ST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372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Divulgar aos professores a importância do acesso às ferramentas tecnológica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Despertar nos professores o interesse pela tecnologia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Promover uma interação maior entre os professores e o computado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Oferecer aos professores uma forma diferente de realizar projeto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Fazer uso dos conhecimentos adquiridos no projeto para aplicá-lo em aulas diferenciada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Metodologi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projeto foi realizado na Escola Estadual Senador Filinto Müller, durante o mês de Julho, sob a orientação das professoras da Sala de Tecnologia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imeiramente foi divulgado para o grupo de professores a ferramenta Toondoo com o intuito de que os professores que não estão incluídos digitalmente pudessem ter acesso a essa ferramenta tecnológica 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9:16:07Z</dcterms:created>
  <dc:creator>Leila</dc:creator>
  <dc:description/>
  <dc:language>en-US</dc:language>
  <cp:lastModifiedBy>E.E.Senador Filinto Muller</cp:lastModifiedBy>
  <dcterms:modified xsi:type="dcterms:W3CDTF">2009-07-29T19:43:06Z</dcterms:modified>
  <cp:revision>4</cp:revision>
  <dc:subject/>
  <dc:title>Angélica/MS</dc:title>
</cp:coreProperties>
</file>